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F0C53-0DD5-462C-B7DA-8270DED62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2EBCF-D364-4981-8404-C32B2F18E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67C01-EE91-4965-9E00-D71160950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60BAB-09D8-4A37-8AFC-55A50B9F0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D359FE-C58D-4AED-B479-2E4C10EBF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0EB41-9320-47C8-A980-25C984394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20DAA-5FAE-4193-8B93-540A3C504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DFB23-51FE-4C4E-AB5D-E59420E5F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6D54A-2A40-437A-8F4D-AB16A002D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9B512-C72E-4746-B79D-6D76F3CFA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0F0DB-870D-482E-BF3B-62C681CBC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1EB53-9245-4D5A-8453-8061DAE9C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4E6A5-6495-4AD8-9887-07E9A591C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FC089-575F-4A78-81A3-5E149525D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FEBA4-E23C-4432-BB19-55B40E37F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46BE8-90AD-4482-B4AE-2F70D1753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4005C-DE91-47B4-B6B7-1ACB759EA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EB198E-F1B6-4D34-A6F6-39BC229B0B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F84716-53EF-4EEF-83A1-BE6258ADD9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A5576A-E8B3-4461-AF2F-4B736BC939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111DE0-4299-47B1-A952-2A782732D6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79557B-2555-484C-AC7C-948A98C3FF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6A319-3628-443C-9637-C7D8E9D31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6FD4B5-4A23-44D1-BBEA-84666C757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5C392-2E4C-406A-ABC7-4A3E6ECFC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C0B86A-1846-4E22-AB2E-1149825E0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D7914-B430-4265-B97C-502B9431A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979A12-A929-45E6-A9F0-FBFC072AF4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F32ADC-369C-476B-9ADD-8D5F5F2576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83619A-250E-43B3-9C97-A97AF0AD47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C6ED9F-1E76-41B4-989F-82E864CF9E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8CB833-9CD0-456D-8915-B5B4488454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33B19-A351-4F1E-98A3-AE889472E1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37A56-5098-41A9-AEE9-493B72E97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C8B708-572C-426C-B0BA-FAB56B87E0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D49B44-DDFA-4092-9F9F-74A377E13A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4E6F76-B5B6-44D4-8A86-826F2B2036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58D822-B66D-4C3B-8337-AA11205258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9706D-1FAD-4417-BE82-40CF834DA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73CF2F-9D84-4D7C-B99B-704D49A1F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D8932F-31E1-48E7-8E46-0F0023EA08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5C7A76-0334-4C75-B7DE-BFF6A337A7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25C925-DF37-4EF6-9F6E-105C46E6A8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8BC7D3-B1F7-4509-AFCD-162C318563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13D35-CEAE-43FB-BA00-4A48DCDD5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428D79-7008-4899-AD13-9BCBA47EBE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025649-B01C-474F-BEE5-74A40D8D40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E5C8CD-9931-4894-8919-FB94C58022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E7C081-B9CB-4FB6-AB21-FA1C8E8973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3ABE87-270D-4614-8A72-20E9742E09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723E2B-EF44-4E32-8967-0BAC4808F3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71ABA1-AAD0-4A14-BD10-DB3C5E4A54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CF678D-CC35-4205-9881-32C0DA2B1B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B969A2-331B-4A1A-A2A1-E396BC61FD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ED19FE-59D7-4A3A-A2B1-2568CF8F07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9F89A-605B-44A2-8077-E879D0C40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C8FF1F-B542-4D3D-AAD1-C440807D24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9A93B7-39AD-48CE-B68E-06D70E856E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AE109F-2C43-40D5-9A4C-CBBD0B1B72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16FB62-8C17-4D25-AD56-D20DB738FD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53074D-5648-430E-B65C-C60B9E7CFF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572856-DC66-4A1D-962F-448425D3AD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3DB0A7-1E1C-4CCD-AFE4-C173728DDA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413887-F458-40E1-B7F8-C7DE272A27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039931-51CE-4B2F-822D-DBD5E5EDF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46E0A5-3674-4B8F-B957-7DBD60471B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3FBDE-B279-4C59-9054-A3D02EE34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54ADD0-8EE6-4DA8-892A-0326F76602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63C2C7-E0EE-4411-9F0B-5B3D61EDE2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A51F68-FF7E-4ECC-A10C-7A452E707A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A530F5-3BBC-45EE-9CAB-87A6B59DE6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872E49-FC34-49D4-8268-E4215A5354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9A3F81-0EEB-45D5-BC99-33E78225B9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F8CAD9-21C0-4181-A26E-878D8D3A05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3BFF92-56FD-46A7-B93D-4EA51A76C1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071CC4-4BF9-4289-9A6F-758D98BEDE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52FB35-8744-4975-9381-CE5697487E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1F10E-C516-4776-8CBC-CD671F649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63E84A-1655-4D70-B3AF-D736FF951C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5F69A8-E0B4-46FC-B5A8-9D136688C1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8B2B5C-617D-4A2C-BEC8-8293DC0D6E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81D768-F89D-4D58-9A3D-F5197DE4F9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667750-67E1-4D39-B41D-D8D4E91E60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82BF1-E029-45BB-970C-985527CE3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7A8E-8C55-470B-B6ED-89CC81D4255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A17A-7560-403F-BC76-CEE0E8A5B2D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1224-3261-42B5-92E5-85983D23C9E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4C13-FCCB-4C1A-9DE9-59013833F4D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8D90-C60D-4525-A7B1-36D119B3E11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6D4B-6719-418B-8077-9BEE404CC0F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EA1A-6861-40D0-A427-3F367238D63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380880"/>
            <a:ext cx="740736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Power of Mentor Texts </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CRWP 2009</a:t>
            </a:r>
            <a:endParaRPr b="0" lang="en-US" sz="2600" spc="-1" strike="noStrike">
              <a:solidFill>
                <a:srgbClr val="000000"/>
              </a:solidFill>
              <a:latin typeface="Gill Sans MT"/>
            </a:endParaRPr>
          </a:p>
        </p:txBody>
      </p:sp>
      <p:pic>
        <p:nvPicPr>
          <p:cNvPr id="320" name="Picture 3" descr="I love You the Purplest.jpg"/>
          <p:cNvPicPr/>
          <p:nvPr/>
        </p:nvPicPr>
        <p:blipFill>
          <a:blip r:embed="rId1"/>
          <a:stretch/>
        </p:blipFill>
        <p:spPr>
          <a:xfrm>
            <a:off x="1143000" y="4724280"/>
            <a:ext cx="2209680" cy="1828800"/>
          </a:xfrm>
          <a:prstGeom prst="rect">
            <a:avLst/>
          </a:prstGeom>
          <a:ln w="0">
            <a:noFill/>
          </a:ln>
        </p:spPr>
      </p:pic>
      <p:pic>
        <p:nvPicPr>
          <p:cNvPr id="321" name="Picture 4" descr="Hailstones and halibut bones.jpg"/>
          <p:cNvPicPr/>
          <p:nvPr/>
        </p:nvPicPr>
        <p:blipFill>
          <a:blip r:embed="rId2"/>
          <a:stretch/>
        </p:blipFill>
        <p:spPr>
          <a:xfrm>
            <a:off x="3505320" y="3200400"/>
            <a:ext cx="2133360" cy="3124080"/>
          </a:xfrm>
          <a:prstGeom prst="rect">
            <a:avLst/>
          </a:prstGeom>
          <a:ln w="0">
            <a:noFill/>
          </a:ln>
        </p:spPr>
      </p:pic>
      <p:pic>
        <p:nvPicPr>
          <p:cNvPr id="322" name="Picture 5" descr="Hello Ocean.jpg"/>
          <p:cNvPicPr/>
          <p:nvPr/>
        </p:nvPicPr>
        <p:blipFill>
          <a:blip r:embed="rId3"/>
          <a:stretch/>
        </p:blipFill>
        <p:spPr>
          <a:xfrm>
            <a:off x="5867280" y="4514760"/>
            <a:ext cx="2667240" cy="2343240"/>
          </a:xfrm>
          <a:prstGeom prst="rect">
            <a:avLst/>
          </a:prstGeom>
          <a:ln w="0">
            <a:noFill/>
          </a:ln>
        </p:spPr>
      </p:pic>
      <p:pic>
        <p:nvPicPr>
          <p:cNvPr id="323" name="Picture 6" descr="All the Places to Love.jpg"/>
          <p:cNvPicPr/>
          <p:nvPr/>
        </p:nvPicPr>
        <p:blipFill>
          <a:blip r:embed="rId4"/>
          <a:stretch/>
        </p:blipFill>
        <p:spPr>
          <a:xfrm>
            <a:off x="6095880" y="2438280"/>
            <a:ext cx="2286000" cy="2133720"/>
          </a:xfrm>
          <a:prstGeom prst="rect">
            <a:avLst/>
          </a:prstGeom>
          <a:ln w="0">
            <a:noFill/>
          </a:ln>
        </p:spPr>
      </p:pic>
      <p:pic>
        <p:nvPicPr>
          <p:cNvPr id="324" name="Picture 7" descr="Owl Moon.jpg"/>
          <p:cNvPicPr/>
          <p:nvPr/>
        </p:nvPicPr>
        <p:blipFill>
          <a:blip r:embed="rId5"/>
          <a:stretch/>
        </p:blipFill>
        <p:spPr>
          <a:xfrm>
            <a:off x="1371600" y="2666880"/>
            <a:ext cx="182880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143000" y="304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Gradual Release of Responsibilty </a:t>
            </a:r>
            <a:br>
              <a:rPr sz="3900"/>
            </a:br>
            <a:r>
              <a:rPr b="0" lang="en-US" sz="2400" spc="-1" strike="noStrike">
                <a:solidFill>
                  <a:srgbClr val="572314"/>
                </a:solidFill>
                <a:latin typeface="Gill Sans MT"/>
              </a:rPr>
              <a:t>Pearson and Gallagher, 1993 </a:t>
            </a:r>
            <a:endParaRPr b="0" lang="en-US" sz="2400" spc="-1" strike="noStrike">
              <a:solidFill>
                <a:srgbClr val="572314"/>
              </a:solidFill>
              <a:latin typeface="Gill Sans MT"/>
            </a:endParaRPr>
          </a:p>
        </p:txBody>
      </p:sp>
      <p:sp>
        <p:nvSpPr>
          <p:cNvPr id="342" name=""/>
          <p:cNvSpPr txBox="1"/>
          <p:nvPr/>
        </p:nvSpPr>
        <p:spPr>
          <a:xfrm>
            <a:off x="1066320" y="1447560"/>
            <a:ext cx="786780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o</a:t>
            </a:r>
            <a:endParaRPr b="0" lang="en-US" sz="3000" spc="-1" strike="noStrike">
              <a:solidFill>
                <a:srgbClr val="000000"/>
              </a:solidFill>
              <a:latin typeface="Gill Sans MT"/>
            </a:endParaRPr>
          </a:p>
          <a:p>
            <a:pPr lvl="1" marL="639720" indent="-2826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del - demonstration of strategy </a:t>
            </a:r>
            <a:endParaRPr b="0" lang="en-US" sz="2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ith</a:t>
            </a:r>
            <a:endParaRPr b="0" lang="en-US" sz="3000" spc="-1" strike="noStrike">
              <a:solidFill>
                <a:srgbClr val="000000"/>
              </a:solidFill>
              <a:latin typeface="Gill Sans MT"/>
            </a:endParaRPr>
          </a:p>
          <a:p>
            <a:pPr lvl="1" marL="639720" indent="-2826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hared/Guided Writing</a:t>
            </a:r>
            <a:endParaRPr b="0" lang="en-US" sz="2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By</a:t>
            </a:r>
            <a:endParaRPr b="0" lang="en-US" sz="3000" spc="-1" strike="noStrike">
              <a:solidFill>
                <a:srgbClr val="000000"/>
              </a:solidFill>
              <a:latin typeface="Gill Sans MT"/>
            </a:endParaRPr>
          </a:p>
          <a:p>
            <a:pPr lvl="1" marL="639720" indent="-2826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dependent Writing </a:t>
            </a:r>
            <a:endParaRPr b="0" lang="en-US" sz="2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Reading mentor texts is important prior to modeling the target strategy</a:t>
            </a:r>
            <a:endParaRPr b="0" lang="en-US" sz="3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flection Time </a:t>
            </a:r>
            <a:endParaRPr b="0" lang="en-US" sz="4300" spc="-1" strike="noStrike">
              <a:solidFill>
                <a:srgbClr val="572314"/>
              </a:solidFill>
              <a:latin typeface="Gill Sans MT"/>
            </a:endParaRPr>
          </a:p>
        </p:txBody>
      </p:sp>
      <p:sp>
        <p:nvSpPr>
          <p:cNvPr id="344" name=""/>
          <p:cNvSpPr txBox="1"/>
          <p:nvPr/>
        </p:nvSpPr>
        <p:spPr>
          <a:xfrm>
            <a:off x="1066320" y="1066320"/>
            <a:ext cx="7867800" cy="5791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riting is creating text and critiquing what was created</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tudents notice things and ask questions about:</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particular strategie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raft</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rganizational structures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flection is the most powerful form of revision</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riting Workshop</a:t>
            </a:r>
            <a:endParaRPr b="0" lang="en-US" sz="43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0-15 minute focused mini-lesson</a:t>
            </a:r>
            <a:endParaRPr b="0" lang="en-US" sz="32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5 minutes of working time (students writing/teacher conferring) </a:t>
            </a:r>
            <a:endParaRPr b="0" lang="en-US" sz="32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0 minutes of reflection time </a:t>
            </a:r>
            <a:endParaRPr b="0" lang="en-US" sz="32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0 minutes of sharing time  </a:t>
            </a:r>
            <a:endParaRPr b="0" lang="en-US" sz="32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ferences </a:t>
            </a:r>
            <a:endParaRPr b="0" lang="en-US" sz="4300" spc="-1" strike="noStrike">
              <a:solidFill>
                <a:srgbClr val="572314"/>
              </a:solidFill>
              <a:latin typeface="Gill Sans MT"/>
            </a:endParaRPr>
          </a:p>
        </p:txBody>
      </p:sp>
      <p:sp>
        <p:nvSpPr>
          <p:cNvPr id="348" name=""/>
          <p:cNvSpPr txBox="1"/>
          <p:nvPr/>
        </p:nvSpPr>
        <p:spPr>
          <a:xfrm>
            <a:off x="914400" y="1447560"/>
            <a:ext cx="8020080" cy="48006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Cappelli, R. &amp; Dorfman, L.R. 2007. </a:t>
            </a:r>
            <a:r>
              <a:rPr b="0" i="1" lang="en-US" sz="1900" spc="-1" strike="noStrike">
                <a:solidFill>
                  <a:srgbClr val="000000"/>
                </a:solidFill>
                <a:latin typeface="Gill Sans MT"/>
              </a:rPr>
              <a:t>Mentor Texts: Teaching Writing Through Children’s Literature, K-6. </a:t>
            </a:r>
            <a:r>
              <a:rPr b="0" lang="en-US" sz="1900" spc="-1" strike="noStrike">
                <a:solidFill>
                  <a:srgbClr val="000000"/>
                </a:solidFill>
                <a:latin typeface="Gill Sans MT"/>
              </a:rPr>
              <a:t>Portland: Stenhouse.</a:t>
            </a: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letcher, Ralph. 1993. </a:t>
            </a:r>
            <a:r>
              <a:rPr b="0" i="1" lang="en-US" sz="1900" spc="-1" strike="noStrike">
                <a:solidFill>
                  <a:srgbClr val="000000"/>
                </a:solidFill>
                <a:latin typeface="Gill Sans MT"/>
              </a:rPr>
              <a:t>What a Writer Needs. </a:t>
            </a:r>
            <a:r>
              <a:rPr b="0" lang="en-US" sz="1900" spc="-1" strike="noStrike">
                <a:solidFill>
                  <a:srgbClr val="000000"/>
                </a:solidFill>
                <a:latin typeface="Gill Sans MT"/>
              </a:rPr>
              <a:t>Portsmouth: Heinemann. </a:t>
            </a: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Calkins, L. &amp; Oxenhorn, A. 2003. </a:t>
            </a:r>
            <a:r>
              <a:rPr b="0" i="1" lang="en-US" sz="1900" spc="-1" strike="noStrike">
                <a:solidFill>
                  <a:srgbClr val="000000"/>
                </a:solidFill>
                <a:latin typeface="Gill Sans MT"/>
              </a:rPr>
              <a:t>Small Moments: Personal Narrative Writing</a:t>
            </a:r>
            <a:r>
              <a:rPr b="0" lang="en-US" sz="1900" spc="-1" strike="noStrike">
                <a:solidFill>
                  <a:srgbClr val="000000"/>
                </a:solidFill>
                <a:latin typeface="Gill Sans MT"/>
              </a:rPr>
              <a:t>. Portsmouth: Heinemann. </a:t>
            </a: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alther, Maria. 2009. </a:t>
            </a:r>
            <a:r>
              <a:rPr b="0" i="1" lang="en-US" sz="1900" spc="-1" strike="noStrike">
                <a:solidFill>
                  <a:srgbClr val="000000"/>
                </a:solidFill>
                <a:latin typeface="Gill Sans MT"/>
              </a:rPr>
              <a:t>Marvelous Books and Lively Mini-Lessons That Teach the Six Traits of Writing. </a:t>
            </a:r>
            <a:r>
              <a:rPr b="0" lang="en-US" sz="1900" spc="-1" strike="noStrike">
                <a:solidFill>
                  <a:srgbClr val="000000"/>
                </a:solidFill>
                <a:latin typeface="Gill Sans MT"/>
              </a:rPr>
              <a:t>Torrance: SDR.  </a:t>
            </a: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ebsites</a:t>
            </a: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http://www.proteacher.org/c/722_Writing_-_Descriptive_Writing.html</a:t>
            </a: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 </a:t>
            </a:r>
            <a:r>
              <a:rPr b="0" lang="en-US" sz="1900" spc="-1" strike="noStrike">
                <a:solidFill>
                  <a:srgbClr val="000000"/>
                </a:solidFill>
                <a:latin typeface="Gill Sans MT"/>
              </a:rPr>
              <a:t>Google Images</a:t>
            </a: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 </a:t>
            </a:r>
            <a:r>
              <a:rPr b="0" lang="en-US" sz="1900" spc="-1" strike="noStrike">
                <a:solidFill>
                  <a:srgbClr val="000000"/>
                </a:solidFill>
                <a:latin typeface="Gill Sans MT"/>
              </a:rPr>
              <a:t>http://images.google.com/imghp?hl=en&amp;tab=wi</a:t>
            </a: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entors/Mentor Texts</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riting mentors are for everyone- teachers as well as students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entor texts are books that offer many possibilities for our students and ourselves as writers</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y become our coaches and partners as we bring the joy of writing to our students</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at are mentor texts?</a:t>
            </a:r>
            <a:endParaRPr b="0" lang="en-US" sz="4300" spc="-1" strike="noStrike">
              <a:solidFill>
                <a:srgbClr val="572314"/>
              </a:solidFill>
              <a:latin typeface="Gill Sans MT"/>
            </a:endParaRPr>
          </a:p>
        </p:txBody>
      </p:sp>
      <p:sp>
        <p:nvSpPr>
          <p:cNvPr id="328" name=""/>
          <p:cNvSpPr txBox="1"/>
          <p:nvPr/>
        </p:nvSpPr>
        <p:spPr>
          <a:xfrm>
            <a:off x="990720" y="1447560"/>
            <a:ext cx="7943760" cy="510516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iterature we return to again and again</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y help writers learn how to do what they may not be able to do on their own </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exts well loved by the teacher and known inside and out</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napshots into the futur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y use Mentor Texts? </a:t>
            </a:r>
            <a:endParaRPr b="0" lang="en-US" sz="4300" spc="-1" strike="noStrike">
              <a:solidFill>
                <a:srgbClr val="572314"/>
              </a:solidFill>
              <a:latin typeface="Gill Sans MT"/>
            </a:endParaRPr>
          </a:p>
        </p:txBody>
      </p:sp>
      <p:sp>
        <p:nvSpPr>
          <p:cNvPr id="330" name=""/>
          <p:cNvSpPr txBox="1"/>
          <p:nvPr/>
        </p:nvSpPr>
        <p:spPr>
          <a:xfrm>
            <a:off x="762120" y="1143000"/>
            <a:ext cx="8076960" cy="541008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ignite the writer’s imagination and determination </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create text that mirrors the mentor helping students feel comfortable taking risks </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allow us to focus on writing skills and strategies because the text is so familiar</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show not just tell students how to write well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hoosing a Mentor Text </a:t>
            </a:r>
            <a:endParaRPr b="0" lang="en-US" sz="4300" spc="-1" strike="noStrike">
              <a:solidFill>
                <a:srgbClr val="572314"/>
              </a:solidFill>
              <a:latin typeface="Gill Sans MT"/>
            </a:endParaRPr>
          </a:p>
        </p:txBody>
      </p:sp>
      <p:sp>
        <p:nvSpPr>
          <p:cNvPr id="332" name=""/>
          <p:cNvSpPr txBox="1"/>
          <p:nvPr/>
        </p:nvSpPr>
        <p:spPr>
          <a:xfrm>
            <a:off x="1434960" y="1447560"/>
            <a:ext cx="7499520" cy="4800600"/>
          </a:xfrm>
          <a:prstGeom prst="rect">
            <a:avLst/>
          </a:prstGeom>
          <a:noFill/>
          <a:ln w="0">
            <a:noFill/>
          </a:ln>
        </p:spPr>
        <p:txBody>
          <a:bodyPr anchor="t">
            <a:normAutofit fontScale="97000"/>
          </a:bodyPr>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1.</a:t>
            </a:r>
            <a:r>
              <a:rPr b="0" lang="en-US" sz="3000" spc="-1" strike="noStrike">
                <a:solidFill>
                  <a:srgbClr val="000000"/>
                </a:solidFill>
                <a:latin typeface="Gill Sans MT"/>
              </a:rPr>
              <a:t> Connect with and love the book</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2.</a:t>
            </a:r>
            <a:r>
              <a:rPr b="0" lang="en-US" sz="3000" spc="-1" strike="noStrike">
                <a:solidFill>
                  <a:srgbClr val="000000"/>
                </a:solidFill>
                <a:latin typeface="Gill Sans MT"/>
              </a:rPr>
              <a:t> Find examples of author’s craft: powerful language, effective repetition   </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3.</a:t>
            </a:r>
            <a:r>
              <a:rPr b="0" lang="en-US" sz="3000" spc="-1" strike="noStrike">
                <a:solidFill>
                  <a:srgbClr val="000000"/>
                </a:solidFill>
                <a:latin typeface="Gill Sans MT"/>
              </a:rPr>
              <a:t> Ask how does the book serve your students’ needs and connect with your curriculum</a:t>
            </a:r>
            <a:endParaRPr b="0" lang="en-US" sz="30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4.</a:t>
            </a:r>
            <a:r>
              <a:rPr b="0" lang="en-US" sz="3000" spc="-1" strike="noStrike">
                <a:solidFill>
                  <a:srgbClr val="000000"/>
                </a:solidFill>
                <a:latin typeface="Gill Sans MT"/>
              </a:rPr>
              <a:t> Choose books from many genres   </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roducing Mentor Texts </a:t>
            </a:r>
            <a:endParaRPr b="0" lang="en-US" sz="4300" spc="-1" strike="noStrike">
              <a:solidFill>
                <a:srgbClr val="572314"/>
              </a:solidFill>
              <a:latin typeface="Gill Sans MT"/>
            </a:endParaRPr>
          </a:p>
        </p:txBody>
      </p:sp>
      <p:sp>
        <p:nvSpPr>
          <p:cNvPr id="334" name=""/>
          <p:cNvSpPr txBox="1"/>
          <p:nvPr/>
        </p:nvSpPr>
        <p:spPr>
          <a:xfrm>
            <a:off x="1434960" y="1447560"/>
            <a:ext cx="7499520" cy="48006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ntroduce them as read-alouds, appreciating and responding to them as readers</a:t>
            </a:r>
            <a:endParaRPr b="0" lang="en-US" sz="3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Look at them through the eyes of a writer </a:t>
            </a:r>
            <a:endParaRPr b="0" lang="en-US" sz="3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Revisit mentor texts to:  </a:t>
            </a:r>
            <a:endParaRPr b="0" lang="en-US" sz="3000" spc="-1" strike="noStrike">
              <a:solidFill>
                <a:srgbClr val="000000"/>
              </a:solidFill>
              <a:latin typeface="Gill Sans MT"/>
            </a:endParaRPr>
          </a:p>
          <a:p>
            <a:pPr lvl="1" marL="613800" indent="-271080">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arch for craft </a:t>
            </a:r>
            <a:endParaRPr b="0" lang="en-US" sz="2600" spc="-1" strike="noStrike">
              <a:solidFill>
                <a:srgbClr val="000000"/>
              </a:solidFill>
              <a:latin typeface="Gill Sans MT"/>
            </a:endParaRPr>
          </a:p>
          <a:p>
            <a:pPr lvl="1" marL="613800" indent="-271080">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Gather ideas </a:t>
            </a:r>
            <a:endParaRPr b="0" lang="en-US" sz="2600" spc="-1" strike="noStrike">
              <a:solidFill>
                <a:srgbClr val="000000"/>
              </a:solidFill>
              <a:latin typeface="Gill Sans MT"/>
            </a:endParaRPr>
          </a:p>
          <a:p>
            <a:pPr lvl="1" marL="613800" indent="-271080">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Shelley Harwayne reminds us,  </a:t>
            </a:r>
            <a:endParaRPr b="0" lang="en-US" sz="3900" spc="-1" strike="noStrike">
              <a:solidFill>
                <a:srgbClr val="572314"/>
              </a:solidFill>
              <a:latin typeface="Gill Sans MT"/>
            </a:endParaRPr>
          </a:p>
        </p:txBody>
      </p:sp>
      <p:sp>
        <p:nvSpPr>
          <p:cNvPr id="336" name=""/>
          <p:cNvSpPr txBox="1"/>
          <p:nvPr/>
        </p:nvSpPr>
        <p:spPr>
          <a:xfrm>
            <a:off x="1434960" y="1447560"/>
            <a:ext cx="7499520" cy="48006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Writers take their writing very seriously. When they read, they discover topics for their writing. They become interested in new genres and formats. They study authors’ techniques to learn how to improve their own writing. They develop mentor relationships with their favorite writers, aspiring to be more like them.”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eacher as Writer </a:t>
            </a:r>
            <a:endParaRPr b="0" lang="en-US" sz="4300" spc="-1" strike="noStrike">
              <a:solidFill>
                <a:srgbClr val="572314"/>
              </a:solidFill>
              <a:latin typeface="Gill Sans MT"/>
            </a:endParaRPr>
          </a:p>
        </p:txBody>
      </p:sp>
      <p:sp>
        <p:nvSpPr>
          <p:cNvPr id="338" name=""/>
          <p:cNvSpPr txBox="1"/>
          <p:nvPr/>
        </p:nvSpPr>
        <p:spPr>
          <a:xfrm>
            <a:off x="1645920" y="1752120"/>
            <a:ext cx="74977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s a core belief we must articulate to students, colleagues, and ourselves</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riting for our students is part of the explicit instruction we do for them</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lps us engage in the same struggles and problem solving strategies as our students </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How Mentor Texts Fit </a:t>
            </a:r>
            <a:br>
              <a:rPr sz="3900"/>
            </a:br>
            <a:r>
              <a:rPr b="0" lang="en-US" sz="3900" spc="-1" strike="noStrike">
                <a:solidFill>
                  <a:srgbClr val="572314"/>
                </a:solidFill>
                <a:latin typeface="Gill Sans MT"/>
              </a:rPr>
              <a:t>into the Curriculum </a:t>
            </a:r>
            <a:endParaRPr b="0" lang="en-US" sz="3900" spc="-1" strike="noStrike">
              <a:solidFill>
                <a:srgbClr val="572314"/>
              </a:solidFill>
              <a:latin typeface="Gill Sans MT"/>
            </a:endParaRPr>
          </a:p>
        </p:txBody>
      </p:sp>
      <p:sp>
        <p:nvSpPr>
          <p:cNvPr id="34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eachers need to model the strategy they hope their students will us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nd mentor texts where the author’s use is clea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small section of text is needed to model the strateg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1T12:02:29Z</dcterms:created>
  <dc:creator>alicia</dc:creator>
  <dc:description/>
  <dc:language>en-US</dc:language>
  <cp:lastModifiedBy>tstephen</cp:lastModifiedBy>
  <dcterms:modified xsi:type="dcterms:W3CDTF">2012-06-15T16:03:37Z</dcterms:modified>
  <cp:revision>49</cp:revision>
  <dc:subject/>
  <dc:title>The Power of Mentor Texts</dc:title>
</cp:coreProperties>
</file>